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B1D-5857-4209-BE49-43135F0A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B54-D2D8-4D82-9437-E6980F7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0BA-99E4-4776-845B-C8046B9C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D11-ACCF-459E-887D-D5FA4202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998-9B18-4154-884F-CC30C80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445-EA2E-41DF-B7A5-0E6C071C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F3D-47FF-407B-B5F1-69BCCB2F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65B-04F2-4EB3-9EBE-6448498A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080-A08B-4845-811D-FD49D589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893-0C47-4A2A-A767-6126272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749-1D59-4288-B044-96E6C1B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CD1-62C3-481F-867E-A5CA8D83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0898-2975-476D-AF39-C33BB5F6C19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6 Ty,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lásky,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z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tovani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Bože lásk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že zľutova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oslať ráč svoj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ilosti nám da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nás pred pád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oje ruky chrá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všade predchádz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oja tvár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ar svätej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v nás mocne pl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ezmedzne blížny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ilovať nás uč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kto by pad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môž mu, nech vst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duši mu rozn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jasnej viery l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o srdce naše tvrdé často bý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pozná súc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ce odpúšť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meň ho ty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meno tvoje vzý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na krivdy ho nauč zabúda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sa nad nami denne zľutová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;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kiež my ťa za to stále chválime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mocnú ru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aždému rád dáv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j nás to nauč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že, prosím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53:16Z</dcterms:modified>
  <cp:revision>24</cp:revision>
  <dc:subject/>
  <dc:title>Je veľký náš Pán, on slávy je Kráľ Nech do všetkých strán  spev vrúcnych znie chvál.</dc:title>
</cp:coreProperties>
</file>